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18D1-E2D8-42B1-9CE2-FEFE2DD7C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4AA3-21C6-46FC-A8D4-9B54C919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C22B-76BA-4E09-8411-F56E4918C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81FE-EB58-40EA-8311-6A0B9FA04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9DDD-DAF4-4BFD-B469-DE5E4D786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6947-5870-4463-AE9E-D541F1F95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7DD1-669B-4BB4-84B2-62580FC0C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EC11-CC2B-42FE-94AD-3F5BB8234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3009-B80F-4BD0-A5BD-C0AC6A892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B50D-9C6C-428C-990F-CDE04709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45AF-2E76-44F7-AA11-DF43F340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BD84-3509-4AD5-9F2A-F210AB41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EA6F4-5978-4692-A0C1-85E01E188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3141720"/>
            <a:ext cx="669744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«Повышение качества образования в условиях реализации комплексного проекта модернизации образования (КПМО)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067280" y="5105520"/>
            <a:ext cx="4897440" cy="14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чальни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У «Управление образован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.И. Весн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Сравнение результатов по годам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57200" y="1600200"/>
          <a:ext cx="8507520" cy="5075280"/>
        </p:xfrm>
        <a:graphic>
          <a:graphicData uri="http://schemas.openxmlformats.org/drawingml/2006/table">
            <a:tbl>
              <a:tblPr/>
              <a:tblGrid>
                <a:gridCol w="4762440"/>
                <a:gridCol w="1152720"/>
                <a:gridCol w="1390680"/>
                <a:gridCol w="1201680"/>
              </a:tblGrid>
              <a:tr h="2067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Выпускники 11-х класс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00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г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0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г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0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г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505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Успеваемость (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99,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99,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503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ачество знаний (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45,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39,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52,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Успеваемость и качество зна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4000" y="4076280"/>
            <a:ext cx="88200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Высокие результаты в лицее «Эрудит», «Истоки», гимназии «Планета Детства»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№№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3,8, «Лицее», школах №№ 6, 1, 26, 1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Отрицательная динамика по всем параметрам в школе №13, по качеству знаний – в школе №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68360" y="1484280"/>
          <a:ext cx="8229600" cy="222228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72900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Успеваемость (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ачество знаний (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007 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008 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009 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007 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008 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009 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99,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99,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99,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51,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51,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53,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Учителя, подготовившие победителей и призеров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II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(краевого) этапа Всероссийской олимпиады школьников по общеобразовательным предметам в 2008/2009 учебном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24000" y="2637000"/>
          <a:ext cx="8362800" cy="3992400"/>
        </p:xfrm>
        <a:graphic>
          <a:graphicData uri="http://schemas.openxmlformats.org/drawingml/2006/table">
            <a:tbl>
              <a:tblPr/>
              <a:tblGrid>
                <a:gridCol w="5133960"/>
                <a:gridCol w="3228840"/>
              </a:tblGrid>
              <a:tr h="798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Быстрова Лидия Александров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Гимназия №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798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Бобровская Елена Васильев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Лицей «Эрудит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798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Денисенко Татьяна Владимиров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Лицей «Эрудит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798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Щиголева Наталья Васильев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Платета Детст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798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Фогель Ольга Владимиров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ОШ №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Курсовая подготов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1600200"/>
          <a:ext cx="8229600" cy="2260440"/>
        </p:xfrm>
        <a:graphic>
          <a:graphicData uri="http://schemas.openxmlformats.org/drawingml/2006/table">
            <a:tbl>
              <a:tblPr/>
              <a:tblGrid>
                <a:gridCol w="5122800"/>
                <a:gridCol w="3106800"/>
              </a:tblGrid>
              <a:tr h="113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ентябрь-Декабр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008 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21 чел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13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Январь – Ию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009 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92 чел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79280" y="260280"/>
          <a:ext cx="8713800" cy="5648400"/>
        </p:xfrm>
        <a:graphic>
          <a:graphicData uri="http://schemas.openxmlformats.org/drawingml/2006/table">
            <a:tbl>
              <a:tblPr/>
              <a:tblGrid>
                <a:gridCol w="2478240"/>
                <a:gridCol w="2771640"/>
                <a:gridCol w="3463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омин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Дипломом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степе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Дипломом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степе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«Опыт государственно-общественного управления ОУ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 Ассоциация родителей     «ДАР»   гимназии     «Планета Детства»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 МОУ Лицей «Эрудит», директор Иванова Н.Т., зам. дир. Денисенко Т.В.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«Развитие единой информационно- образовательной среды в ОУ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ОУ «Лицей «Эрудит Иванова Н.Т., директор, Ерофеев К.В.  зам. дир.по информатизац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«Организация экспериментальной деятельности педагогов во всех типах общеобразовательных учреждений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Ерофеев  К.В. зам. дир. МОУ «Лицей «Эрудит»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ОУ «СОШ №10», директор Смирнова О. Н., Костюшова Л.А. зам. дир., Руденко Т.И. педагог-психолог, Сергеев В.П. инструктор-методист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«Сохранение, укрепление и формирование здоровья учащихс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обровская Е.А. зам.ди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ОУ «Лицей «Эрудит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обровская Е.А., зам.дир. МОУ «Лицей «Эрудит»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«Инновации в преподавании общеобразовательных предметов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Толмачева Н.П. , уч.информ. и ИКТ, Довбня Г.В., уч. нем. языка   МОУ СОШ  №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моленцев А.В., уч. биологии МОУ «Гимназия №3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79280" y="189000"/>
          <a:ext cx="8713800" cy="6480000"/>
        </p:xfrm>
        <a:graphic>
          <a:graphicData uri="http://schemas.openxmlformats.org/drawingml/2006/table">
            <a:tbl>
              <a:tblPr/>
              <a:tblGrid>
                <a:gridCol w="2479680"/>
                <a:gridCol w="2220840"/>
                <a:gridCol w="4013280"/>
              </a:tblGrid>
              <a:tr h="63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омин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Дипломом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степе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Дипломом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степе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393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«Воспитательные системы, проекты, программы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руководители и творческие коллективы Гончарова Т.В. директор, МОУ СОШ №24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рокопович Н.Н. директор,  МОУ КСОШ №2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40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«Инновации в управлении образованием на муниципальном  и окружном уровнях»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Ерофеев К.В.,  уч.информатики МОУ «Лицей «Эруди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64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«Инновационный опыт освоения современного дошкольного образования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едагогические  коллектив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и руководители МДОУ №4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1,№ 14, 35, «Истоки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едагогические  коллектив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и руководители МДО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,46 , 8,  56 , МОУ гимназия «Планета Детства»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393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«Развитие дополнительного образования детей в современных условиях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вторские  коллективы МОУ ДОД «ЦРТДиЮ» 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ЦВР «Малая Академия»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ОУ ДОД «ЦРТДиЮ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250920" y="189000"/>
          <a:ext cx="8713800" cy="6581520"/>
        </p:xfrm>
        <a:graphic>
          <a:graphicData uri="http://schemas.openxmlformats.org/drawingml/2006/table">
            <a:tbl>
              <a:tblPr/>
              <a:tblGrid>
                <a:gridCol w="2297160"/>
                <a:gridCol w="2178000"/>
                <a:gridCol w="2271600"/>
                <a:gridCol w="1967040"/>
              </a:tblGrid>
              <a:tr h="325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омин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«Победитель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Грам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лагодар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«Методический видеомодуль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ДОУ №7 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ОУ «Лицей Эрудит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«Видеосюжет»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ДОУ №47 «Елочк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939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«Учебный видеофильм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вторский коллекти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ОУ Лицей «Эрудит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«Методический видеофильм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вторский коллекти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од рук.  Камзоловой А.А., зав. МДОУ № 4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2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«Методический видеомодуль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вторские коллектив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ДОУ   №19 . МДОУ  №4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ДОУ   №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685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«Видеосюжет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вторский коллекти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ДОУ   №3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Лозовая В.М. зам. зав. МДОУ   №6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усихин А.И., учитель информатики МОУ СОШ№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ГЭП МОУ «СОШ №10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«Особенности содержания кадетского образования в условиях МОУ «СОШ №10» Кадетский корпус юных спасателе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ГЭП МОУ «Гимназия №3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«Культуротворческий подход в современном образовании как один из факторов развития учрежде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КЭП МОУ «Гимназия №8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«Организация работы группы кратковременного пребывания (ГКП) на базу гимназии №8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КЭП, ФЭП МОУ «Лицей «Эруди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«Повышение качества образования в лицее на основе компетентностного подход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380880" y="380880"/>
            <a:ext cx="8439120" cy="3993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егодня для многих семей решающим при выборе места жительства становится уж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е фактор наличия  рядом здания с табличкой «школа»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а возможность обеспечить детям образование современного качеств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6156360" y="4653000"/>
            <a:ext cx="26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И. Кал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Модернизация школьных столов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77770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В 2008/2009 гг. полностью переоснащены 8 школьных столов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оступило оборудование на сумму 4278,0 тыс. руб., в том числе принципиально новое для школьных столовы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пароконвектоматы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мармиты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многофункциональные пекарские шкафы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устройства для очищения и смягчения воды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посудомоечные маш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348000" y="4653000"/>
            <a:ext cx="2736720" cy="20541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79280" y="4076640"/>
            <a:ext cx="3097440" cy="2322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6300720" y="4005360"/>
            <a:ext cx="266400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54000"/>
            <a:ext cx="9144000" cy="15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Победители конкурса лучших учителей на получение денежного поощрения Президента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-360" y="1773360"/>
            <a:ext cx="9612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Список побед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100 тысяч руб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1. Воронова Тамара Николаевна - учитель информатики, МОУ «СОШ № 1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2. Шиллер Ольга Ивановна - учитель физики, МОУ «Гимназия № 3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3. Бобровская Елена Васильевна - учитель биологии, экологи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МОУ «Лицей «Эрудит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4. Смоленцев Александр Васильевич - учитель биологии, экологи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МОУ «Гимназия № 3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5. Прохватилов Анатолий Михайлович - учитель математи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МОУ «Лицей» (при РИ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6. Бас Любовь Ивановна - учитель истории, МОУ «Гимназия № 8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7. Дик Вера Алексеевна - учитель русского языка и литератур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МОУ «СОШ № 6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8. Шинкоренко Елена Владимировна - учитель начальных класс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МО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«Гимназия «Планета Детств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9. Кожевникова Лариса Дмитриевна - учитель начальных класс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МОУ «СОШ № 24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Охват летним отдых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539640" y="2133720"/>
          <a:ext cx="8229600" cy="3730680"/>
        </p:xfrm>
        <a:graphic>
          <a:graphicData uri="http://schemas.openxmlformats.org/drawingml/2006/table">
            <a:tbl>
              <a:tblPr/>
              <a:tblGrid>
                <a:gridCol w="1235160"/>
                <a:gridCol w="1800000"/>
                <a:gridCol w="1727280"/>
                <a:gridCol w="1728720"/>
                <a:gridCol w="1738440"/>
              </a:tblGrid>
              <a:tr h="146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Всего учащихся 1-10 клас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Охвачены летним отдых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Малозатратные фор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Трудоустрое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Общее количество отдохнвих и занятых общ-кол. труд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0290 чел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6077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5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580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342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092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Охват дошкольным образованием</a:t>
            </a:r>
            <a:br>
              <a:rPr sz="3600"/>
            </a:b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В 29 ДОУ – 5039 детей. Охват дошкольным образованием составляет 67%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24000" y="2060640"/>
            <a:ext cx="856908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ДЕНЕЖНАЯ КОМПЕНСАЦИЯ РОДИТЕЛЬСКОЙ ДОЛИ В ДОШКОЛЬНЫХ ОБРАЗОВАТЕЛЬНЫХ УЧРЕЖДЕ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8000" y="5157720"/>
            <a:ext cx="88567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РЕДНЕЕ ЧИСЛО ПОЛУЧАТЕЛЕЙ КОМПЕНСАЦИИ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3955 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РЕДНЯЯ СУММА РОДИТЕЛЬСКОЙ ПЛАТЫ В МЕСЯЦ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2865,0 Т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РЕДНЯЯ СУММА КОМПЕНСАЦИИ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 МЕСЯЦ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827,7 Т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Основание: Отчет о расходах бюджета за 1 квартал 2009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50920" y="1628640"/>
          <a:ext cx="8713800" cy="3508560"/>
        </p:xfrm>
        <a:graphic>
          <a:graphicData uri="http://schemas.openxmlformats.org/drawingml/2006/table">
            <a:tbl>
              <a:tblPr/>
              <a:tblGrid>
                <a:gridCol w="361800"/>
                <a:gridCol w="1222560"/>
                <a:gridCol w="1296720"/>
                <a:gridCol w="1079640"/>
                <a:gridCol w="1081080"/>
                <a:gridCol w="1079640"/>
                <a:gridCol w="1368360"/>
                <a:gridCol w="1224000"/>
              </a:tblGrid>
              <a:tr h="14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ЧИСЛО ДЕТЕЙ В СЕМЬ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СРЕДНЕЕ ЧИСЛО РАБОЧИХ ДНЕ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РАЗМЕР</a:t>
                      </a: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ОПЛАТЫ</a:t>
                      </a: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ДЕНЬ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РАЗМЕР ОПЛАТЫ В МЕСЯЦ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КОМПЕН</a:t>
                      </a: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САЦИ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ДОЛЯ РОДИТЕЛЕЙ В ОПЛАТЕ ЗА ДЕТСАД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ДОЛЯ ГОСУДАР</a:t>
                      </a: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СТВА В ОПЛАТЕ ЗА ДЕТСАД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ОДИН РЕБЕНОК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50 руб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050 руб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840 руб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10 руб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ДВОЕ ДЕТЕ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50 руб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050 руб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525 руб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525 руб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6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ТРОЕ ДЕТЕ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50 руб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050 руб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7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315 руб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735 руб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Значительно улучшились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условия пребывания и обучения в школах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380880" y="1143000"/>
            <a:ext cx="8321760" cy="3020040"/>
          </a:xfrm>
          <a:prstGeom prst="rect">
            <a:avLst/>
          </a:prstGeom>
          <a:solidFill>
            <a:srgbClr val="ffffff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Значительно улучшилась материально-техническая оснащенность шко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Все МОУ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рудованы АП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Модернизируется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ьное пит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За 2008-2009 год средства, выделяемые из краевого бюджета н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ые расходы  возросли в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6 ра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Организована устойчивая  работа школ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ети Интер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сех МОУ создан сай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304920" y="4343400"/>
            <a:ext cx="8397720" cy="1922760"/>
          </a:xfrm>
          <a:prstGeom prst="rect">
            <a:avLst/>
          </a:prstGeom>
          <a:solidFill>
            <a:srgbClr val="ffffff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5 до 55% увеличилась доля детей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учающихся в школах, соответствующим современным требова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В городе наблюдается устойчивая тенденция п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ю школьнообусловленных заболева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556000" y="1989000"/>
            <a:ext cx="6033960" cy="4526280"/>
          </a:xfrm>
          <a:prstGeom prst="rect">
            <a:avLst/>
          </a:prstGeom>
          <a:ln w="19080">
            <a:solidFill>
              <a:srgbClr val="000080"/>
            </a:solidFill>
            <a:miter/>
          </a:ln>
        </p:spPr>
      </p:pic>
      <p:sp>
        <p:nvSpPr>
          <p:cNvPr id="87" name=""/>
          <p:cNvSpPr txBox="1"/>
          <p:nvPr/>
        </p:nvSpPr>
        <p:spPr>
          <a:xfrm rot="20700600">
            <a:off x="1042920" y="1125360"/>
            <a:ext cx="7240680" cy="185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Молодцы, лицеисты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Object 2"/>
          <p:cNvGraphicFramePr/>
          <p:nvPr/>
        </p:nvGraphicFramePr>
        <p:xfrm>
          <a:off x="228600" y="152280"/>
          <a:ext cx="8381880" cy="6705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52280"/>
                    <a:ext cx="8381880" cy="670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Строительство и восстановление зданий дошкольных образовательных учреждений. Снижение очередности в ДОУ практически не снижа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Решение кадровых проблем. Привлечение молодых специалистов в сферу образ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Эффективное использование имеющейся материально-технической базы с целью повышения качества образ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11280" y="4762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ерешенные проблемы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964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Неэффективное использование созданных в ходе реализации ПНПО и КПМО возможностей, в том числе, информационных, современного учебного оборуд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Внедрение НСОТ, повышение заработной платы педагогов и руководителей не всегда жестко увязано с повышением качества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457200" y="1522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ерешенные проблемы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560" y="2852640"/>
            <a:ext cx="7488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</a:rPr>
              <a:t>СПАСИБО</a:t>
            </a:r>
            <a:br>
              <a:rPr sz="7200"/>
            </a:br>
            <a:r>
              <a:rPr b="1" lang="en-US" sz="7200" spc="-1" strike="noStrike">
                <a:solidFill>
                  <a:srgbClr val="333399"/>
                </a:solidFill>
                <a:latin typeface="Arial"/>
              </a:rPr>
              <a:t>ЗА</a:t>
            </a:r>
            <a:br>
              <a:rPr sz="7200"/>
            </a:br>
            <a:r>
              <a:rPr b="1" lang="en-US" sz="7200" spc="-1" strike="noStrike">
                <a:solidFill>
                  <a:srgbClr val="333399"/>
                </a:solidFill>
                <a:latin typeface="Arial"/>
              </a:rPr>
              <a:t>ВНИМАНИЕ!!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54000"/>
            <a:ext cx="9144000" cy="15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Победители конкурса лучших учителей на получение денежного поощрения Президента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-360" y="1746000"/>
            <a:ext cx="93250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Times New Roman"/>
              </a:rPr>
              <a:t>Список побед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Times New Roman"/>
              </a:rPr>
              <a:t>30 тысяч руб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1. Серикова Юлия Николаевна - педагог доп. образования, ДЮ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2. Ерофеев Константин Владимирович - учитель информати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МОУ «Лицей «Эрудит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3. Соколова Людмила Васильевна - учитель истории, МОУ «Лицей «Эрудит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4. Токмакова Ольга Владимировна - заместитель директора по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MP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МДОУ «Детский сад № 57 «Аленуш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5. Храмченко Елена Анатольевна - воспитател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МДОУ «Детский сад № 46 «Светлячок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6. Булгакова Ольга Николаевна - педагог доп. образова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ЦВР «Малая Академ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7. Садовникова Раиса Дмитриевна – 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МДОУ «Детский сад № 8 «Крепыш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8. Веревкина Валентина Ивановна - учитель ручного труда, СКОШИ №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99"/>
                </a:solidFill>
                <a:latin typeface="Times New Roman"/>
              </a:rPr>
              <a:t>КПМ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50920" y="1700280"/>
          <a:ext cx="8569080" cy="4744800"/>
        </p:xfrm>
        <a:graphic>
          <a:graphicData uri="http://schemas.openxmlformats.org/drawingml/2006/table">
            <a:tbl>
              <a:tblPr/>
              <a:tblGrid>
                <a:gridCol w="1152360"/>
                <a:gridCol w="1306440"/>
                <a:gridCol w="2149560"/>
                <a:gridCol w="1101960"/>
                <a:gridCol w="2139840"/>
                <a:gridCol w="718920"/>
              </a:tblGrid>
              <a:tr h="874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оступило средст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Расходование средст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снащен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Ремо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89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8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т.руб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563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т.руб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334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т.руб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89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2362 т.руб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653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т.руб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708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т.руб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Итого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2126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т. руб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16216,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т. руб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5043,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т. руб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85672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Введение новой системы оплаты труда работников общего образования, направленной на повышение доходов учител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Переход на нормативное подушевое финансирование общеобразовательных учрежд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Развитие региональной системы оценки качества образо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Развитие сети общеобразовательных учреждений региона, обеспечение условий для получения качественного общего образования независимо от места жительст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Расширение общественного участия в управлении образова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Заработная плата по НСО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50920" y="2133720"/>
          <a:ext cx="8642160" cy="3889080"/>
        </p:xfrm>
        <a:graphic>
          <a:graphicData uri="http://schemas.openxmlformats.org/drawingml/2006/table">
            <a:tbl>
              <a:tblPr/>
              <a:tblGrid>
                <a:gridCol w="1857240"/>
                <a:gridCol w="1500120"/>
                <a:gridCol w="1570320"/>
                <a:gridCol w="1338120"/>
                <a:gridCol w="1090440"/>
                <a:gridCol w="1285920"/>
              </a:tblGrid>
              <a:tr h="130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Заработная пл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Учите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Рост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до введения НСО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Директо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Р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За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редня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581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 21,7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8538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в 1,4 ра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9727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иним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20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8698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90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аксим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3134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170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860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Доля Ф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5,1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. Заработная плата по сравнению с 2008 годом увеличила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2. Уменьшился разрыв в размерах оплаты труда учителей, имеющих большой стаж педагогической работы, и молодых специалис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3. Происходит оптимизация численности педагогических работ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4. Происходит ощутимая дифференциация заработных плат педагогов внутри педагогического коллектива шк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5. Активизировалось обсуждение качества образования и показателей качества в педагогической среде. К этому обсуждению активно привлекается обществен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6. Устанавливается открытость и прозрачность управления образовательными системами в результате участия представителей общественности в оценке труда учителей и руководителей муниципальными общеобразовательными учрежден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85672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Введение новой системы оплаты труда работников общего образования, направленной на повышение доходов учител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Переход на нормативное подушевое финансирование общеобразовательных учрежд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Развитие региональной системы оценки качества образо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Развитие сети общеобразовательных учреждений региона, обеспечение условий для получения качественного общего образования независимо от места жительст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Расширение общественного участия в управлении образова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99"/>
                </a:solidFill>
                <a:latin typeface="Arial"/>
              </a:rPr>
              <a:t>ЕГ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Русский язык: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Рейтинг по краю –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5 мест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Наивысший балл «</a:t>
            </a: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96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» в школах №№ 1,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Математика: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Рейтинг по краю –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20 мест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Наивысший балл «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79-80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» в МОУ «Лицей» (при РИИ) и МОУ «Гимназия №8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5T02:27:35Z</dcterms:created>
  <dc:creator>mmx</dc:creator>
  <dc:description/>
  <dc:language>en-US</dc:language>
  <cp:lastModifiedBy>Admin</cp:lastModifiedBy>
  <dcterms:modified xsi:type="dcterms:W3CDTF">2009-08-26T08:40:05Z</dcterms:modified>
  <cp:revision>5</cp:revision>
  <dc:subject/>
  <dc:title>Расчет объема субвенции на обеспечение государственных гарантий граждан на получение общего образования в общеобразовательных учреждениях на 2009 год.</dc:title>
</cp:coreProperties>
</file>